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DC37-E082-42EC-962B-34BF93ED0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7BC8-6205-4DBA-9A89-4F720130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E066-2CC5-47EC-8C94-8A780C494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501A-4CBA-4380-B8D1-881043F1D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2EE1-6EDC-415B-97DB-DD890380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54A9-5511-41F6-B04B-E4C64228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10D0-2C3D-4251-8F54-FB2AFD0D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3BFD-77EB-4FD2-BE5A-887B1C82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3A27-37BD-408C-ACA2-367762D7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E5C7-1F07-413A-8193-314C1B31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05B4-849A-4E28-AA94-27CADDD6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A67B-B08B-4AE1-B9FD-E2C7217F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F5F7-62FA-49D0-9FD2-7DFD4C554E2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2349360"/>
          <a:ext cx="8569080" cy="3686400"/>
        </p:xfrm>
        <a:graphic>
          <a:graphicData uri="http://schemas.openxmlformats.org/drawingml/2006/table">
            <a:tbl>
              <a:tblPr/>
              <a:tblGrid>
                <a:gridCol w="2398680"/>
                <a:gridCol w="1063440"/>
                <a:gridCol w="2311560"/>
                <a:gridCol w="2795400"/>
              </a:tblGrid>
              <a:tr h="303120">
                <a:tc gridSpan="4"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ARIA GM/MS N° 3.037  DE 14/11/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480">
                <a:tc gridSpan="4"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era Valores de procedimentos oftalmológicos na Tabela de Procedimentos  SU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560">
                <a:tc gridSpan="4"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STÃO MUNICIP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 gridSpan="3"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NICIP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LOR TOT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24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.918,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RU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969,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8.629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O N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979,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1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                 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GERAL: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 296.497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em 5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2472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24000" y="2421000"/>
          <a:ext cx="8229600" cy="2333520"/>
        </p:xfrm>
        <a:graphic>
          <a:graphicData uri="http://schemas.openxmlformats.org/drawingml/2006/table">
            <a:tbl>
              <a:tblPr/>
              <a:tblGrid>
                <a:gridCol w="2303280"/>
                <a:gridCol w="1022400"/>
                <a:gridCol w="2217600"/>
                <a:gridCol w="2686320"/>
              </a:tblGrid>
              <a:tr h="304920">
                <a:tc gridSpan="4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ARIA GM/MS N° 3.037  DE 14/11/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gridSpan="4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era Valores de procedimentos oftalmológicos na Tabela de Procedimentos  SU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gridSpan="4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STÃO ESTAD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NICIP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LOR TOT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4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94,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                 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GERAL: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 2.994,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m 5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247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00:54Z</dcterms:created>
  <dc:creator>branti</dc:creator>
  <dc:description/>
  <dc:language>en-US</dc:language>
  <cp:lastModifiedBy>Deusa de canaa Miranda Parriao de Souza</cp:lastModifiedBy>
  <dcterms:modified xsi:type="dcterms:W3CDTF">2017-12-05T16:57:45Z</dcterms:modified>
  <cp:revision>31</cp:revision>
  <dc:subject/>
  <dc:title>GOVERNO DO ESTADO DO TOCANTINS SECRETARIA DA SAÚDE SUPERINTENDENCIA DE ATENÇÃO E PROMOÇÃO À SAÚDE DIRETORIA DE CONTROLE, REGULAÇÃO, AVALIAÇÃO E AUDITORIA COORDENAÇÃO DE CONTROLE E SISTEMAS DE INFORMAÇÃO</dc:title>
</cp:coreProperties>
</file>